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0477-EDC8-44CA-A8BD-DBB8620D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892E-9DC8-4354-8E31-4EC46FE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BD41-8967-4F54-88CF-DC73217D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7DC5-7DA9-4D8F-A24F-D2090CCE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04E-77EE-48F7-98A9-D85985DE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DC0D-71AE-4743-A835-510694B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EB63-7054-484E-AB3C-A3C33139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4C0-DAF8-40CC-8B95-564AE12B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B848-8B08-4400-BEF8-5E8A9F19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C48D-C00B-4259-9E59-460F2DBA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DC4D-C2C9-4A8E-B54C-313F6A2D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B102-DE13-4876-9866-75C06DDD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D327-AFEA-42C2-AD07-C8B1BCD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B49A-5EC4-47CB-998F-FD6AF1D4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AFB6-ACE6-4CC5-9BE2-D1A7FB0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72FC-04A3-4334-A357-45361BAB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578E-F878-4492-9681-83598110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DEED-4C60-42A4-B286-3E026E2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44FC-7D81-4EDA-98AC-0AF537D0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8158-9B67-4DA8-BD31-180DF559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9029-272F-4825-B0ED-7022463A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6080-F857-4143-A281-522D055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03A3-E60D-4B05-ADF4-DF5EF27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F5D7-7A4A-4E0C-9190-FA088A5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33580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FD3-AE1A-4BCC-9A86-2EE79EC7AD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3" name=""/>
            <p:cNvGrpSpPr/>
            <p:nvPr/>
          </p:nvGrpSpPr>
          <p:grpSpPr>
            <a:xfrm>
              <a:off x="2057400" y="4719600"/>
              <a:ext cx="4794840" cy="4412160"/>
              <a:chOff x="2057400" y="4719600"/>
              <a:chExt cx="4794840" cy="4412160"/>
            </a:xfrm>
          </p:grpSpPr>
          <p:sp>
            <p:nvSpPr>
              <p:cNvPr id="4" name=""/>
              <p:cNvSpPr/>
              <p:nvPr/>
            </p:nvSpPr>
            <p:spPr>
              <a:xfrm>
                <a:off x="2057400" y="5595120"/>
                <a:ext cx="343188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965120" y="5652360"/>
                <a:ext cx="149868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452760" y="7081200"/>
                <a:ext cx="339228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271680" y="4719600"/>
                <a:ext cx="358056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59320" y="4903200"/>
                <a:ext cx="148572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2343240" y="833112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51" name=""/>
            <p:cNvGrpSpPr/>
            <p:nvPr/>
          </p:nvGrpSpPr>
          <p:grpSpPr>
            <a:xfrm>
              <a:off x="2057400" y="4719600"/>
              <a:ext cx="4794840" cy="4412160"/>
              <a:chOff x="2057400" y="4719600"/>
              <a:chExt cx="4794840" cy="4412160"/>
            </a:xfrm>
          </p:grpSpPr>
          <p:sp>
            <p:nvSpPr>
              <p:cNvPr id="52" name=""/>
              <p:cNvSpPr/>
              <p:nvPr/>
            </p:nvSpPr>
            <p:spPr>
              <a:xfrm>
                <a:off x="2057400" y="5595120"/>
                <a:ext cx="343188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65120" y="5652360"/>
                <a:ext cx="149868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52760" y="7081200"/>
                <a:ext cx="339228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71680" y="4719600"/>
                <a:ext cx="358056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59320" y="4903200"/>
                <a:ext cx="148572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2343240" y="833580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4914720" y="83390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3D54-C4CE-4D86-B935-22A9055B8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886e0"/>
                </a:solidFill>
                <a:latin typeface="Monotype Corsiva"/>
              </a:rPr>
              <a:t>Теорема Пифагора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91920" y="4500360"/>
            <a:ext cx="50893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76e8"/>
                </a:solidFill>
                <a:latin typeface="Monotype Corsiva"/>
              </a:rPr>
              <a:t>Автор работы: Закируллина Альби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76e8"/>
                </a:solidFill>
                <a:latin typeface="Monotype Corsiva"/>
              </a:rPr>
              <a:t>Руководитель: Гайнуллина Луиза Мирсаидовн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84280" y="3203640"/>
            <a:ext cx="35290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Нассира-эд-Д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488960" y="2484360"/>
            <a:ext cx="4646160" cy="5498640"/>
            <a:chOff x="1488960" y="2484360"/>
            <a:chExt cx="4646160" cy="5498640"/>
          </a:xfrm>
        </p:grpSpPr>
        <p:grpSp>
          <p:nvGrpSpPr>
            <p:cNvPr id="258" name=""/>
            <p:cNvGrpSpPr/>
            <p:nvPr/>
          </p:nvGrpSpPr>
          <p:grpSpPr>
            <a:xfrm>
              <a:off x="1810800" y="2903760"/>
              <a:ext cx="3991680" cy="4710240"/>
              <a:chOff x="1810800" y="2903760"/>
              <a:chExt cx="3991680" cy="471024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2808000" y="4803120"/>
                <a:ext cx="1995840" cy="987840"/>
              </a:xfrm>
              <a:prstGeom prst="rtTriangl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10800" y="4803120"/>
                <a:ext cx="997200" cy="987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808000" y="2904120"/>
                <a:ext cx="1997640" cy="1899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808000" y="4803120"/>
                <a:ext cx="2994480" cy="2810880"/>
                <a:chOff x="2808000" y="4803120"/>
                <a:chExt cx="2994480" cy="2810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808000" y="5790960"/>
                  <a:ext cx="998640" cy="1823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805640" y="4803120"/>
                  <a:ext cx="996840" cy="174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3806640" y="6549120"/>
                  <a:ext cx="1995840" cy="1064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1810800" y="2904120"/>
                <a:ext cx="997200" cy="1899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1810800" y="3891600"/>
                <a:ext cx="997200" cy="189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810800" y="2904120"/>
                <a:ext cx="2380320" cy="448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3806280" y="2903760"/>
                <a:ext cx="999000" cy="189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499120" y="57913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09480" y="571572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8960" y="468576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57360" y="377496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55920" y="263448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38800" y="248436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21960" y="255924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86560" y="2634480"/>
              <a:ext cx="3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02760" y="45756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1320" y="6357240"/>
              <a:ext cx="3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640" y="7614720"/>
              <a:ext cx="34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89240" y="734544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54400" y="5446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63920" y="50310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14240" y="45003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68320" y="500760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03800" y="4399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4640" y="6587640"/>
            <a:ext cx="5032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Гофмана №1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9072720"/>
            <a:ext cx="260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133720" y="4858560"/>
            <a:ext cx="2303280" cy="86364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65960" y="583092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46240" y="43178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03960" y="450072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268280" y="572436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437000" y="2556000"/>
            <a:ext cx="0" cy="23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37000" y="4859280"/>
            <a:ext cx="936720" cy="223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268280" y="2555640"/>
            <a:ext cx="3168720" cy="3168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133720" y="2555640"/>
            <a:ext cx="2303280" cy="3168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2133720" y="4858920"/>
            <a:ext cx="3240000" cy="22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133720" y="5724360"/>
            <a:ext cx="3240000" cy="1368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69120" y="54705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0960" y="691056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3960" y="208584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3240" y="4462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09720" y="51102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43480" y="5038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" descr=""/>
          <p:cNvPicPr/>
          <p:nvPr/>
        </p:nvPicPr>
        <p:blipFill>
          <a:blip r:embed="rId1"/>
          <a:stretch/>
        </p:blipFill>
        <p:spPr>
          <a:xfrm>
            <a:off x="630360" y="2982960"/>
            <a:ext cx="5661000" cy="4340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Гофмана №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Гарфилд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10" name="picture" descr=""/>
          <p:cNvPicPr/>
          <p:nvPr/>
        </p:nvPicPr>
        <p:blipFill>
          <a:blip r:embed="rId1"/>
          <a:stretch/>
        </p:blipFill>
        <p:spPr>
          <a:xfrm>
            <a:off x="507960" y="3192480"/>
            <a:ext cx="5905440" cy="3540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547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886e0"/>
                </a:solidFill>
                <a:latin typeface="Garamond"/>
              </a:rPr>
              <a:t>Рисунок к доказательству Перигаля («Колесо с лопастями»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060280" y="4427640"/>
            <a:ext cx="431640" cy="86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0640" y="5292720"/>
            <a:ext cx="21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49360" y="7524720"/>
            <a:ext cx="142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220640" y="5292720"/>
            <a:ext cx="7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49000" y="2627280"/>
            <a:ext cx="1008360" cy="20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292640" y="3492000"/>
            <a:ext cx="865080" cy="18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60640" y="5292720"/>
            <a:ext cx="0" cy="22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60640" y="7524720"/>
            <a:ext cx="21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292640" y="5292720"/>
            <a:ext cx="0" cy="22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628280" y="3995640"/>
            <a:ext cx="86364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196640" y="4859280"/>
            <a:ext cx="863640" cy="433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196640" y="3995640"/>
            <a:ext cx="431640" cy="86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92280" y="4427640"/>
            <a:ext cx="1800360" cy="86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57720" y="2627280"/>
            <a:ext cx="1800000" cy="86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89360" y="2843280"/>
            <a:ext cx="0" cy="2233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08280" y="3924360"/>
            <a:ext cx="2233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141720" y="6300720"/>
            <a:ext cx="64764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24280" y="5867280"/>
            <a:ext cx="1368360" cy="64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492280" y="5292720"/>
            <a:ext cx="720720" cy="136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060280" y="6443640"/>
            <a:ext cx="1297080" cy="64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95880" y="4390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64600" y="6262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24960" y="2951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85320" y="6838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16960" y="3166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45320" y="6910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64400" y="5726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64760" y="4214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40600" y="5470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08960" y="4030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43080" y="7956720"/>
            <a:ext cx="63792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"/>
          <p:cNvSpPr/>
          <p:nvPr/>
        </p:nvSpPr>
        <p:spPr>
          <a:xfrm>
            <a:off x="3552840" y="3635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86e0"/>
                </a:solidFill>
                <a:latin typeface="Times New Roman"/>
              </a:rPr>
              <a:t>Рисунок к доказательству Бетхер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45" name="picture" descr=""/>
          <p:cNvPicPr/>
          <p:nvPr/>
        </p:nvPicPr>
        <p:blipFill>
          <a:blip r:embed="rId1"/>
          <a:stretch/>
        </p:blipFill>
        <p:spPr>
          <a:xfrm>
            <a:off x="836640" y="1116000"/>
            <a:ext cx="5400720" cy="752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Гутхейл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8" name="picture" descr=""/>
          <p:cNvPicPr/>
          <p:nvPr/>
        </p:nvPicPr>
        <p:blipFill>
          <a:blip r:embed="rId1"/>
          <a:stretch/>
        </p:blipFill>
        <p:spPr>
          <a:xfrm>
            <a:off x="907920" y="2987640"/>
            <a:ext cx="5164200" cy="4730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Рисунок к доказательству Евкли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50" name="picture" descr=""/>
          <p:cNvPicPr/>
          <p:nvPr/>
        </p:nvPicPr>
        <p:blipFill>
          <a:blip r:embed="rId1"/>
          <a:stretch/>
        </p:blipFill>
        <p:spPr>
          <a:xfrm>
            <a:off x="1052640" y="2411280"/>
            <a:ext cx="4825800" cy="5469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упрощенному доказательству Евклид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3" name="picture" descr=""/>
          <p:cNvPicPr/>
          <p:nvPr/>
        </p:nvPicPr>
        <p:blipFill>
          <a:blip r:embed="rId1"/>
          <a:stretch/>
        </p:blipFill>
        <p:spPr>
          <a:xfrm>
            <a:off x="692280" y="2124000"/>
            <a:ext cx="5545080" cy="5975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Хоукин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6" name="picture" descr=""/>
          <p:cNvPicPr/>
          <p:nvPr/>
        </p:nvPicPr>
        <p:blipFill>
          <a:blip r:embed="rId1"/>
          <a:stretch/>
        </p:blipFill>
        <p:spPr>
          <a:xfrm>
            <a:off x="907920" y="2484360"/>
            <a:ext cx="4924440" cy="5399280"/>
          </a:xfrm>
          <a:prstGeom prst="rect">
            <a:avLst/>
          </a:prstGeom>
          <a:ln w="1908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276e8"/>
                </a:solidFill>
                <a:latin typeface="Monotype Corsiva"/>
              </a:rPr>
              <a:t>Биография Пифагор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3000" y="1692000"/>
            <a:ext cx="6172200" cy="64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кий ученый Пифагор родился около 570г. до н. э. на острове Самос. Отцом Пифагора был Мнесарх, резчик по драгоценным камням. Имя матери Пифагора неизвест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многим античным свидетельствам, родившийся мальчик был сказочно красив, а вскоре проявил и свои незаурядные способ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реди учителей юного Пифагора традиция называет имена старца Гермодаманта и Ферекида Сиросског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Кротоне Пифагор учредил нечто вроде религиозно-этического братства, члены которого обязывались вести так называемый пифагорейский образ жизни.Это был одновременно и религиозный союз, и политический клуб, и научное общ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шло 20 лет. Слава о братстве разнеслась по всему миру. Однажды к Пифагору приходит Килон, человек богатый , но злой, желает спьяну вступить в братство. Получив отказ, Килон начинает борьбу с Пифагором, воспользовавшись поджегом его дома. При пожаре пифагорейцы спасли жизнь своему учителю ценой своей, после чего Пифагор затосковал и вкоре покончил жизнь самоубийств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Вальдхейм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68280" y="3850920"/>
            <a:ext cx="4752360" cy="2736720"/>
            <a:chOff x="1268280" y="3850920"/>
            <a:chExt cx="4752360" cy="2736720"/>
          </a:xfrm>
        </p:grpSpPr>
        <p:sp>
          <p:nvSpPr>
            <p:cNvPr id="359" name=""/>
            <p:cNvSpPr/>
            <p:nvPr/>
          </p:nvSpPr>
          <p:spPr>
            <a:xfrm>
              <a:off x="1268280" y="4960080"/>
              <a:ext cx="0" cy="162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268280" y="3850920"/>
              <a:ext cx="4752360" cy="2736360"/>
              <a:chOff x="1268280" y="3850920"/>
              <a:chExt cx="4752360" cy="2736360"/>
            </a:xfrm>
          </p:grpSpPr>
          <p:sp>
            <p:nvSpPr>
              <p:cNvPr id="361" name=""/>
              <p:cNvSpPr/>
              <p:nvPr/>
            </p:nvSpPr>
            <p:spPr>
              <a:xfrm>
                <a:off x="1268280" y="6587280"/>
                <a:ext cx="4752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6020640" y="3851280"/>
                <a:ext cx="0" cy="273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268280" y="3850920"/>
                <a:ext cx="4752360" cy="110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4217400" y="3851280"/>
                <a:ext cx="1802520" cy="273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68280" y="4959720"/>
                <a:ext cx="2949480" cy="1627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"/>
          <p:cNvSpPr/>
          <p:nvPr/>
        </p:nvSpPr>
        <p:spPr>
          <a:xfrm>
            <a:off x="765000" y="5508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86080" y="6478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70520" y="6551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4967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48200" y="5183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500364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Мельма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5003640"/>
            <a:ext cx="576360" cy="360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637000" y="52927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957960" y="3741840"/>
            <a:ext cx="4842360" cy="2693160"/>
            <a:chOff x="957960" y="3741840"/>
            <a:chExt cx="4842360" cy="2693160"/>
          </a:xfrm>
        </p:grpSpPr>
        <p:sp>
          <p:nvSpPr>
            <p:cNvPr id="377" name=""/>
            <p:cNvSpPr/>
            <p:nvPr/>
          </p:nvSpPr>
          <p:spPr>
            <a:xfrm flipH="1">
              <a:off x="2636640" y="4788000"/>
              <a:ext cx="360360" cy="57600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957960" y="3741840"/>
              <a:ext cx="4842360" cy="2693160"/>
              <a:chOff x="957960" y="3741840"/>
              <a:chExt cx="4842360" cy="2693160"/>
            </a:xfrm>
          </p:grpSpPr>
          <p:sp>
            <p:nvSpPr>
              <p:cNvPr id="379" name=""/>
              <p:cNvSpPr/>
              <p:nvPr/>
            </p:nvSpPr>
            <p:spPr>
              <a:xfrm>
                <a:off x="1413000" y="6012000"/>
                <a:ext cx="3816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957960" y="3741840"/>
                <a:ext cx="4842360" cy="2693160"/>
                <a:chOff x="957960" y="3741840"/>
                <a:chExt cx="4842360" cy="2693160"/>
              </a:xfrm>
            </p:grpSpPr>
            <p:sp>
              <p:nvSpPr>
                <p:cNvPr id="381" name=""/>
                <p:cNvSpPr/>
                <p:nvPr/>
              </p:nvSpPr>
              <p:spPr>
                <a:xfrm flipV="1">
                  <a:off x="1413000" y="4427280"/>
                  <a:ext cx="1008000" cy="1584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21000" y="4427640"/>
                  <a:ext cx="2808360" cy="1584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5992400">
                  <a:off x="1989000" y="4641480"/>
                  <a:ext cx="1332000" cy="1405080"/>
                </a:xfrm>
                <a:prstGeom prst="ellipse">
                  <a:avLst/>
                </a:prstGeom>
                <a:noFill/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57960" y="5902200"/>
                  <a:ext cx="39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А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419800" y="5902200"/>
                  <a:ext cx="380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В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89160" y="37418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С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522440" y="475128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674880" y="460692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967120" y="5975280"/>
                  <a:ext cx="33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760840" y="4859280"/>
                  <a:ext cx="32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616120" y="5435640"/>
                  <a:ext cx="32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184480" y="4788000"/>
                  <a:ext cx="32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Garamond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 Нильсе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773000" y="2124000"/>
            <a:ext cx="4032000" cy="5040360"/>
            <a:chOff x="1773000" y="2124000"/>
            <a:chExt cx="4032000" cy="5040360"/>
          </a:xfrm>
        </p:grpSpPr>
        <p:sp>
          <p:nvSpPr>
            <p:cNvPr id="395" name=""/>
            <p:cNvSpPr/>
            <p:nvPr/>
          </p:nvSpPr>
          <p:spPr>
            <a:xfrm>
              <a:off x="3070080" y="3924000"/>
              <a:ext cx="1871280" cy="93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773000" y="2124000"/>
              <a:ext cx="4032000" cy="5040360"/>
              <a:chOff x="1773000" y="2124000"/>
              <a:chExt cx="4032000" cy="5040360"/>
            </a:xfrm>
          </p:grpSpPr>
          <p:sp>
            <p:nvSpPr>
              <p:cNvPr id="397" name=""/>
              <p:cNvSpPr/>
              <p:nvPr/>
            </p:nvSpPr>
            <p:spPr>
              <a:xfrm flipH="1" flipV="1">
                <a:off x="1773360" y="4427280"/>
                <a:ext cx="86472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1773000" y="2124000"/>
                <a:ext cx="4032000" cy="5040360"/>
                <a:chOff x="1773000" y="2124000"/>
                <a:chExt cx="4032000" cy="5040360"/>
              </a:xfrm>
            </p:grpSpPr>
            <p:sp>
              <p:nvSpPr>
                <p:cNvPr id="399" name=""/>
                <p:cNvSpPr/>
                <p:nvPr/>
              </p:nvSpPr>
              <p:spPr>
                <a:xfrm flipH="1">
                  <a:off x="2637720" y="3924000"/>
                  <a:ext cx="431640" cy="93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638080" y="4859280"/>
                  <a:ext cx="2303280" cy="23050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2204640" y="3492000"/>
                  <a:ext cx="2304360" cy="1150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1773000" y="3492360"/>
                  <a:ext cx="431640" cy="93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4941720" y="3058560"/>
                  <a:ext cx="863280" cy="1800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3070080" y="2124000"/>
                  <a:ext cx="86328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33720" y="2124000"/>
                  <a:ext cx="1871280" cy="93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2638080" y="3708000"/>
                  <a:ext cx="0" cy="1150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3573360" y="2842920"/>
                  <a:ext cx="0" cy="1370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73360" y="2842920"/>
                  <a:ext cx="1799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638080" y="6011640"/>
                  <a:ext cx="2303280" cy="1152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2637720" y="6227640"/>
                  <a:ext cx="431640" cy="936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4004640" y="4859280"/>
                  <a:ext cx="936360" cy="180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438440" y="5795640"/>
                  <a:ext cx="502920" cy="289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3" name=""/>
          <p:cNvSpPr/>
          <p:nvPr/>
        </p:nvSpPr>
        <p:spPr>
          <a:xfrm>
            <a:off x="2033280" y="4029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80920" y="3884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84200" y="3524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92200" y="2444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08200" y="3524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44560" y="5468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1280" y="6692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24200" y="5540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07840" y="626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81280" y="6188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«Луночки Гиппократ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25" name="picture" descr=""/>
          <p:cNvPicPr/>
          <p:nvPr/>
        </p:nvPicPr>
        <p:blipFill>
          <a:blip r:embed="rId1"/>
          <a:stretch/>
        </p:blipFill>
        <p:spPr>
          <a:xfrm rot="21444000">
            <a:off x="1339920" y="2200320"/>
            <a:ext cx="410364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26" name="picture" descr=""/>
          <p:cNvPicPr/>
          <p:nvPr/>
        </p:nvPicPr>
        <p:blipFill>
          <a:blip r:embed="rId2"/>
          <a:stretch/>
        </p:blipFill>
        <p:spPr>
          <a:xfrm>
            <a:off x="1413000" y="5076720"/>
            <a:ext cx="4103640" cy="3095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" descr=""/>
          <p:cNvPicPr/>
          <p:nvPr/>
        </p:nvPicPr>
        <p:blipFill>
          <a:blip r:embed="rId1"/>
          <a:stretch/>
        </p:blipFill>
        <p:spPr>
          <a:xfrm>
            <a:off x="1916280" y="2268360"/>
            <a:ext cx="3168360" cy="597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Рисунок к доказательству 9 века н. э. ( «Стул невесты»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методом дополнения №1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30" name="picture" descr=""/>
          <p:cNvPicPr/>
          <p:nvPr/>
        </p:nvPicPr>
        <p:blipFill>
          <a:blip r:embed="rId1"/>
          <a:stretch/>
        </p:blipFill>
        <p:spPr>
          <a:xfrm>
            <a:off x="765000" y="1909800"/>
            <a:ext cx="5112000" cy="6334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методом дополнения №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32" name="picture" descr=""/>
          <p:cNvPicPr/>
          <p:nvPr/>
        </p:nvPicPr>
        <p:blipFill>
          <a:blip r:embed="rId1"/>
          <a:srcRect l="0" t="0" r="14941" b="0"/>
          <a:stretch/>
        </p:blipFill>
        <p:spPr>
          <a:xfrm>
            <a:off x="1557360" y="2843280"/>
            <a:ext cx="4103640" cy="47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Garamond"/>
              </a:rPr>
              <a:t>Рисунок к доказательству пространственной теоремы Пифагор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42720" y="7810560"/>
            <a:ext cx="206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523520" y="1981080"/>
            <a:ext cx="4049640" cy="3199320"/>
            <a:chOff x="1523520" y="1981080"/>
            <a:chExt cx="4049640" cy="3199320"/>
          </a:xfrm>
        </p:grpSpPr>
        <p:grpSp>
          <p:nvGrpSpPr>
            <p:cNvPr id="436" name=""/>
            <p:cNvGrpSpPr/>
            <p:nvPr/>
          </p:nvGrpSpPr>
          <p:grpSpPr>
            <a:xfrm>
              <a:off x="2050560" y="2582640"/>
              <a:ext cx="3112920" cy="2597760"/>
              <a:chOff x="2050560" y="2582640"/>
              <a:chExt cx="3112920" cy="2597760"/>
            </a:xfrm>
          </p:grpSpPr>
          <p:sp>
            <p:nvSpPr>
              <p:cNvPr id="437" name=""/>
              <p:cNvSpPr/>
              <p:nvPr/>
            </p:nvSpPr>
            <p:spPr>
              <a:xfrm flipV="1">
                <a:off x="2050920" y="2582640"/>
                <a:ext cx="0" cy="1701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2050560" y="2582640"/>
                <a:ext cx="3112920" cy="2597760"/>
                <a:chOff x="2050560" y="2582640"/>
                <a:chExt cx="3112920" cy="2597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050920" y="4284360"/>
                  <a:ext cx="3112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 flipV="1">
                  <a:off x="2050920" y="2583000"/>
                  <a:ext cx="3112560" cy="1701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 flipV="1">
                  <a:off x="2050560" y="2582640"/>
                  <a:ext cx="2007720" cy="25974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050920" y="4284360"/>
                  <a:ext cx="2007720" cy="896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>
                  <a:off x="4058280" y="4284360"/>
                  <a:ext cx="1104840" cy="896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4" name=""/>
            <p:cNvSpPr/>
            <p:nvPr/>
          </p:nvSpPr>
          <p:spPr>
            <a:xfrm>
              <a:off x="1523520" y="3234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28800" y="4756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7000" y="3836880"/>
              <a:ext cx="4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3520" y="4131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25920" y="1981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40160" y="4131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523880" y="4724280"/>
            <a:ext cx="3835800" cy="3546720"/>
            <a:chOff x="1523880" y="4724280"/>
            <a:chExt cx="3835800" cy="3546720"/>
          </a:xfrm>
        </p:grpSpPr>
        <p:grpSp>
          <p:nvGrpSpPr>
            <p:cNvPr id="451" name=""/>
            <p:cNvGrpSpPr/>
            <p:nvPr/>
          </p:nvGrpSpPr>
          <p:grpSpPr>
            <a:xfrm>
              <a:off x="1523880" y="4724280"/>
              <a:ext cx="3835800" cy="3546720"/>
              <a:chOff x="1523880" y="4724280"/>
              <a:chExt cx="3835800" cy="3546720"/>
            </a:xfrm>
          </p:grpSpPr>
          <p:sp>
            <p:nvSpPr>
              <p:cNvPr id="452" name=""/>
              <p:cNvSpPr/>
              <p:nvPr/>
            </p:nvSpPr>
            <p:spPr>
              <a:xfrm rot="17979600">
                <a:off x="4463640" y="6855480"/>
                <a:ext cx="268560" cy="263160"/>
              </a:xfrm>
              <a:prstGeom prst="rect">
                <a:avLst/>
              </a:prstGeom>
              <a:solidFill>
                <a:srgbClr val="0033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1523880" y="4724280"/>
                <a:ext cx="3835800" cy="3546720"/>
                <a:chOff x="1523880" y="4724280"/>
                <a:chExt cx="3835800" cy="3546720"/>
              </a:xfrm>
            </p:grpSpPr>
            <p:sp>
              <p:nvSpPr>
                <p:cNvPr id="454" name=""/>
                <p:cNvSpPr/>
                <p:nvPr/>
              </p:nvSpPr>
              <p:spPr>
                <a:xfrm flipV="1">
                  <a:off x="3910680" y="6811920"/>
                  <a:ext cx="660960" cy="1078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1523880" y="4724280"/>
                  <a:ext cx="3835800" cy="3546720"/>
                  <a:chOff x="1523880" y="4724280"/>
                  <a:chExt cx="3835800" cy="3546720"/>
                </a:xfrm>
              </p:grpSpPr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1523880" y="4724280"/>
                    <a:ext cx="3835800" cy="3206160"/>
                    <a:chOff x="1523880" y="4724280"/>
                    <a:chExt cx="3835800" cy="3206160"/>
                  </a:xfrm>
                </p:grpSpPr>
                <p:grpSp>
                  <p:nvGrpSpPr>
                    <p:cNvPr id="457" name=""/>
                    <p:cNvGrpSpPr/>
                    <p:nvPr/>
                  </p:nvGrpSpPr>
                  <p:grpSpPr>
                    <a:xfrm>
                      <a:off x="2030040" y="5327280"/>
                      <a:ext cx="2941200" cy="2603160"/>
                      <a:chOff x="2030040" y="5327280"/>
                      <a:chExt cx="2941200" cy="2603160"/>
                    </a:xfrm>
                  </p:grpSpPr>
                  <p:sp>
                    <p:nvSpPr>
                      <p:cNvPr id="458" name=""/>
                      <p:cNvSpPr/>
                      <p:nvPr/>
                    </p:nvSpPr>
                    <p:spPr>
                      <a:xfrm flipV="1">
                        <a:off x="2030400" y="5327280"/>
                        <a:ext cx="0" cy="1705320"/>
                      </a:xfrm>
                      <a:prstGeom prst="line">
                        <a:avLst/>
                      </a:prstGeom>
                      <a:ln w="381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9" name=""/>
                      <p:cNvGrpSpPr/>
                      <p:nvPr/>
                    </p:nvGrpSpPr>
                    <p:grpSpPr>
                      <a:xfrm>
                        <a:off x="2030040" y="5327280"/>
                        <a:ext cx="2941200" cy="2603160"/>
                        <a:chOff x="2030040" y="5327280"/>
                        <a:chExt cx="2941200" cy="2603160"/>
                      </a:xfrm>
                    </p:grpSpPr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2030400" y="7032600"/>
                          <a:ext cx="2940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 flipH="1" flipV="1">
                          <a:off x="2030040" y="5327640"/>
                          <a:ext cx="2940840" cy="1704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 flipH="1" flipV="1">
                          <a:off x="2030040" y="5327280"/>
                          <a:ext cx="1896840" cy="26031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2030400" y="7032600"/>
                          <a:ext cx="1896840" cy="897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 flipH="1">
                          <a:off x="3927240" y="7032600"/>
                          <a:ext cx="1044000" cy="89784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1523880" y="5980680"/>
                      <a:ext cx="182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2661840" y="7506360"/>
                      <a:ext cx="1821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256560" y="6584040"/>
                      <a:ext cx="18144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1532520" y="6902640"/>
                      <a:ext cx="33768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1816920" y="4724280"/>
                      <a:ext cx="18144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043240" y="6902640"/>
                      <a:ext cx="3164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2061000" y="5330160"/>
                    <a:ext cx="2245320" cy="2358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061000" y="7014240"/>
                    <a:ext cx="2179800" cy="6073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 flipV="1">
                    <a:off x="2060640" y="7013880"/>
                    <a:ext cx="2114280" cy="471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761640" y="793368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А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157640" y="7596720"/>
                    <a:ext cx="326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158720" y="7259400"/>
                    <a:ext cx="4078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О</a:t>
                    </a: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7" name=""/>
            <p:cNvSpPr/>
            <p:nvPr/>
          </p:nvSpPr>
          <p:spPr>
            <a:xfrm>
              <a:off x="1865160" y="5056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Некоторые пифагоровы тройки чисе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343080" y="2133720"/>
          <a:ext cx="6172200" cy="551340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 </a:t>
                      </a: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886e0"/>
                </a:solidFill>
                <a:latin typeface="Monotype Corsiva"/>
              </a:rPr>
              <a:t>Теорема Пифагор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9920" y="212400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Если дан нам треугольник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И притом с прямым углом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То квадрат гипотенуз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Мы всегда легко найдем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Катеты в квадрат возводим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Сумму степеней находим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И таким простым пут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К результату мы приде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Monotype Corsiva"/>
              </a:rPr>
              <a:t>И.Дырченк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по учебнику Атанася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305640" y="1465920"/>
            <a:ext cx="6747840" cy="6641280"/>
            <a:chOff x="-305640" y="1465920"/>
            <a:chExt cx="6747840" cy="6641280"/>
          </a:xfrm>
        </p:grpSpPr>
        <p:grpSp>
          <p:nvGrpSpPr>
            <p:cNvPr id="107" name=""/>
            <p:cNvGrpSpPr/>
            <p:nvPr/>
          </p:nvGrpSpPr>
          <p:grpSpPr>
            <a:xfrm>
              <a:off x="1670040" y="3441240"/>
              <a:ext cx="3276000" cy="3123720"/>
              <a:chOff x="1670040" y="3441240"/>
              <a:chExt cx="3276000" cy="312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1670040" y="5619240"/>
                <a:ext cx="2320920" cy="945720"/>
              </a:xfrm>
              <a:prstGeom prst="rtTriangle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3990240" y="4402440"/>
                <a:ext cx="955080" cy="2162520"/>
              </a:xfrm>
              <a:prstGeom prst="rtTriangle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2678040" y="3440880"/>
                <a:ext cx="2268000" cy="960840"/>
              </a:xfrm>
              <a:prstGeom prst="rtTriangle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670040" y="3440880"/>
                <a:ext cx="1008000" cy="2177640"/>
              </a:xfrm>
              <a:prstGeom prst="rtTriangle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883160" y="30970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8280" y="30970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49640" y="431640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31280" y="37828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1760" y="65260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65480" y="58798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13600" y="664200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7240" y="553536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11400" y="576396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21080" y="56880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16160" y="378288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1400" y="401148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3430800">
              <a:off x="2354760" y="5772240"/>
              <a:ext cx="1818360" cy="20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12" y="17"/>
                  </a:moveTo>
                  <a:arcTo wR="10800" hR="10800" stAng="-5205049" swAng="105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12" y="17"/>
                  </a:moveTo>
                  <a:arcTo wR="10800" hR="10800" stAng="-5205049" swAng="1054456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198200">
              <a:off x="3886920" y="3088080"/>
              <a:ext cx="1822320" cy="20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12" y="17"/>
                  </a:moveTo>
                  <a:arcTo wR="10800" hR="10800" stAng="-5205049" swAng="105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12" y="17"/>
                  </a:moveTo>
                  <a:arcTo wR="10800" hR="10800" stAng="-5205049" swAng="1054456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3948000">
              <a:off x="1433880" y="2808000"/>
              <a:ext cx="1819080" cy="203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12" y="17"/>
                  </a:moveTo>
                  <a:arcTo wR="10800" hR="10800" stAng="-5205049" swAng="1042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12" y="17"/>
                  </a:moveTo>
                  <a:arcTo wR="10800" hR="10800" stAng="-5205049" swAng="1042238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5516600">
              <a:off x="3399120" y="5385240"/>
              <a:ext cx="1820160" cy="203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12" y="17"/>
                  </a:moveTo>
                  <a:arcTo wR="10800" hR="10800" stAng="-5205049" swAng="105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12" y="17"/>
                  </a:moveTo>
                  <a:arcTo wR="10800" hR="10800" stAng="-5205049" swAng="1054456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7536600">
              <a:off x="187560" y="4061160"/>
              <a:ext cx="1818360" cy="203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12" y="17"/>
                  </a:moveTo>
                  <a:arcTo wR="10800" hR="10800" stAng="-5205049" swAng="105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12" y="17"/>
                  </a:moveTo>
                  <a:arcTo wR="10800" hR="10800" stAng="-5205049" swAng="1054456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7684200">
              <a:off x="186120" y="4080960"/>
              <a:ext cx="181404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51" y="72"/>
                  </a:moveTo>
                  <a:arcTo wR="10800" hR="10800" stAng="-5798303" swAng="1714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9551" y="72"/>
                  </a:moveTo>
                  <a:arcTo wR="10800" hR="10800" stAng="-5798303" swAng="1714868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3613800">
              <a:off x="2271600" y="5746320"/>
              <a:ext cx="1820160" cy="203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12" y="17"/>
                  </a:moveTo>
                  <a:arcTo wR="10800" hR="10800" stAng="-5205049" swAng="105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12" y="17"/>
                  </a:moveTo>
                  <a:arcTo wR="10800" hR="10800" stAng="-5205049" swAng="1054456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5234600">
              <a:off x="2813040" y="2047680"/>
              <a:ext cx="1820160" cy="24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92" y="92"/>
                  </a:moveTo>
                  <a:arcTo wR="10800" hR="10800" stAng="-5849517" swAng="1070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9392" y="92"/>
                  </a:moveTo>
                  <a:arcTo wR="10800" hR="10800" stAng="-5849517" swAng="107054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803000">
              <a:off x="4237560" y="4140000"/>
              <a:ext cx="1817280" cy="203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6" y="0"/>
                  </a:moveTo>
                  <a:arcTo wR="10800" hR="10800" stAng="-5426591" swAng="1275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6" y="0"/>
                  </a:moveTo>
                  <a:arcTo wR="10800" hR="10800" stAng="-5426591" swAng="1275999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1072000">
              <a:off x="4105440" y="4096080"/>
              <a:ext cx="1819440" cy="203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86" y="774"/>
                  </a:moveTo>
                  <a:arcTo wR="10800" hR="10800" stAng="-6709063" swAng="1657106"/>
                  <a:lnTo>
                    <a:pt x="10800" y="10800"/>
                  </a:lnTo>
                  <a:close/>
                </a:path>
                <a:path fill="none" w="21600" h="21600">
                  <a:moveTo>
                    <a:pt x="6786" y="774"/>
                  </a:moveTo>
                  <a:arcTo wR="10800" hR="10800" stAng="-6709063" swAng="1657106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1157800">
              <a:off x="1055880" y="4894200"/>
              <a:ext cx="1683720" cy="218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59" y="50"/>
                  </a:moveTo>
                  <a:arcTo wR="10800" hR="10800" stAng="-5731862" swAng="1276062"/>
                  <a:lnTo>
                    <a:pt x="10800" y="10800"/>
                  </a:lnTo>
                  <a:close/>
                </a:path>
                <a:path fill="none" w="21600" h="21600">
                  <a:moveTo>
                    <a:pt x="9759" y="50"/>
                  </a:moveTo>
                  <a:arcTo wR="10800" hR="10800" stAng="-5731862" swAng="1276062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3623600">
              <a:off x="2611080" y="1721880"/>
              <a:ext cx="1830600" cy="25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368" y="114"/>
                  </a:moveTo>
                  <a:arcTo wR="10800" hR="10800" stAng="-4899145" swAng="13089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368" y="114"/>
                  </a:moveTo>
                  <a:arcTo wR="10800" hR="10800" stAng="-4899145" swAng="1308988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886e0"/>
                </a:solidFill>
                <a:latin typeface="Monotype Corsiva"/>
              </a:rPr>
              <a:t>Теорема Пифагор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1763280"/>
            <a:ext cx="6172200" cy="64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Пребудет вечной истина, как скор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Все познает слабый человек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И ныне теорема Пифаг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Верна, как и в его далекий ве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Обильно было жертвоприношень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Богам от Пифагора. Сто бы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Он отдал на закланье и сожжень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За свет луча, пришедший с облаков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Поэтому всегда с тех самых пор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Чуть истина рождается на свет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Быки ревут, ее почуя, всле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Они не в силах свету помешать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А могут лишь, закрыв глаза, дрожа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От страха, что вселил в них Пифаго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                </a:t>
            </a:r>
            <a:r>
              <a:rPr b="0" lang="ru-RU" sz="2400" spc="-1" strike="noStrike">
                <a:solidFill>
                  <a:srgbClr val="33ccff"/>
                </a:solidFill>
                <a:latin typeface="Monotype Corsiva"/>
              </a:rPr>
              <a:t>А.Шамисс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по учебнику Киселе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2997360" y="5364000"/>
            <a:ext cx="244944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9240" y="2484360"/>
            <a:ext cx="4939920" cy="3782880"/>
            <a:chOff x="1119240" y="2484360"/>
            <a:chExt cx="4939920" cy="3782880"/>
          </a:xfrm>
        </p:grpSpPr>
        <p:sp>
          <p:nvSpPr>
            <p:cNvPr id="139" name=""/>
            <p:cNvSpPr/>
            <p:nvPr/>
          </p:nvSpPr>
          <p:spPr>
            <a:xfrm>
              <a:off x="1576080" y="4898880"/>
              <a:ext cx="3889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4440" y="3098520"/>
              <a:ext cx="2521080" cy="18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575720" y="3098520"/>
              <a:ext cx="1368360" cy="18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76080" y="4898880"/>
              <a:ext cx="0" cy="136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65520" y="4898880"/>
              <a:ext cx="0" cy="136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76080" y="5979960"/>
              <a:ext cx="3889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16080" y="5330520"/>
              <a:ext cx="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76080" y="53305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44440" y="3098520"/>
              <a:ext cx="0" cy="18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0560" y="38541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4440" y="3819240"/>
              <a:ext cx="3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0680" y="5510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9240" y="47178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8480" y="2484360"/>
              <a:ext cx="3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1520" y="475452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92240" y="49701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с</a:t>
              </a: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50920" y="4970160"/>
              <a:ext cx="4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aramond"/>
                </a:rPr>
                <a:t>в</a:t>
              </a: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89640" y="486216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по учебнику Погорело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>
            <a:off x="2060640" y="5508720"/>
            <a:ext cx="374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60640" y="3780000"/>
            <a:ext cx="1368360" cy="172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428640" y="3780000"/>
            <a:ext cx="2376360" cy="172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780000"/>
            <a:ext cx="0" cy="172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5292720"/>
            <a:ext cx="216000" cy="2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30440" y="5000760"/>
            <a:ext cx="1006200" cy="105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95" y="1562"/>
                </a:moveTo>
                <a:arcTo wR="10800" hR="10800" stAng="-3527817" swAng="3527817"/>
                <a:lnTo>
                  <a:pt x="10800" y="10800"/>
                </a:lnTo>
                <a:close/>
              </a:path>
              <a:path fill="none" w="21600" h="21600">
                <a:moveTo>
                  <a:pt x="16395" y="1562"/>
                </a:moveTo>
                <a:arcTo wR="10800" hR="10800" stAng="-3527817" swAng="3527817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083920" y="4817160"/>
            <a:ext cx="1149480" cy="114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9" y="4905"/>
                </a:moveTo>
                <a:arcTo wR="10800" hR="10800" stAng="-1984897" swAng="2583856"/>
                <a:lnTo>
                  <a:pt x="10800" y="10800"/>
                </a:lnTo>
                <a:close/>
              </a:path>
              <a:path fill="none" w="21600" h="21600">
                <a:moveTo>
                  <a:pt x="19849" y="4905"/>
                </a:moveTo>
                <a:arcTo wR="10800" hR="10800" stAng="-1984897" swAng="2583856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8680" y="539892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0240" y="32385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53240" y="5326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4200" y="54705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3080" y="8167680"/>
            <a:ext cx="4219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2546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Эвклид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2276640" y="4211640"/>
            <a:ext cx="2089080" cy="165564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6640" y="5867280"/>
            <a:ext cx="2089080" cy="2017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2280" y="4211640"/>
            <a:ext cx="1585800" cy="1655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76640" y="2050920"/>
            <a:ext cx="180000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65720" y="3708000"/>
            <a:ext cx="1800000" cy="21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76640" y="2050920"/>
            <a:ext cx="208908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94680" y="583092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1160" y="57592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37240" y="3670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94680" y="78469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3640" y="791856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760" y="3814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0600" y="57592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97120" y="3454560"/>
            <a:ext cx="3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09600" y="1509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76640" y="2771280"/>
            <a:ext cx="266508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06800" y="223056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13000" y="4643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2280" y="4211640"/>
            <a:ext cx="367344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76640" y="2050560"/>
            <a:ext cx="1800000" cy="381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421164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65720" y="421128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7360" y="38862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412640" y="421164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412640" y="5219280"/>
            <a:ext cx="863640" cy="64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52640" y="500364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276280" y="4211640"/>
            <a:ext cx="2089080" cy="3673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276640" y="3708000"/>
            <a:ext cx="3889080" cy="215892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3200" y="849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</a:t>
            </a: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Эпштей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65720" y="6732720"/>
            <a:ext cx="1150920" cy="71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92640" y="2340000"/>
            <a:ext cx="0" cy="22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92640" y="4500720"/>
            <a:ext cx="73080" cy="230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60640" y="2340000"/>
            <a:ext cx="1439640" cy="719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73360" y="3132000"/>
            <a:ext cx="719280" cy="1440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1000" y="4643280"/>
            <a:ext cx="719280" cy="36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84640" y="6732720"/>
            <a:ext cx="223200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1000" y="4643280"/>
            <a:ext cx="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81000" y="5724360"/>
            <a:ext cx="107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81000" y="4643280"/>
            <a:ext cx="107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60640" y="2339640"/>
            <a:ext cx="0" cy="33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0640" y="234000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89000" y="4572000"/>
            <a:ext cx="23036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60640" y="4571640"/>
            <a:ext cx="223200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981000" y="2339640"/>
            <a:ext cx="3311640" cy="33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60640" y="4643280"/>
            <a:ext cx="2663640" cy="252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0640" y="5724360"/>
            <a:ext cx="1224000" cy="22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92640" y="4572000"/>
            <a:ext cx="1224000" cy="216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1699920" y="5003640"/>
            <a:ext cx="360360" cy="648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60640" y="5724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13000" y="5724360"/>
            <a:ext cx="71640" cy="2232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492280" y="5724360"/>
            <a:ext cx="720720" cy="719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365360" y="6084720"/>
            <a:ext cx="718920" cy="719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10800" y="56865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93720" y="4284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5360" y="4175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9960" y="56865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25280" y="70549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66640" y="5759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83280" y="1870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2320" y="63342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3720" y="539892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13280" y="66596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1840" y="3092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1640" y="392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60560" y="2948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12560" y="2444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52200" y="640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0560" y="5829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560" y="543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19280" y="687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15840" y="5324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2560" y="6764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58920" y="63705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08200" y="575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83840" y="4603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2528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2920" y="5289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44200" y="4892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86e0"/>
                </a:solidFill>
                <a:latin typeface="Garamond"/>
              </a:rPr>
              <a:t>Рисунок к доказательству  с помощью разбиения методом ан- Найриз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2" name="picture" descr=""/>
          <p:cNvPicPr/>
          <p:nvPr/>
        </p:nvPicPr>
        <p:blipFill>
          <a:blip r:embed="rId1"/>
          <a:stretch/>
        </p:blipFill>
        <p:spPr>
          <a:xfrm>
            <a:off x="1268280" y="2195640"/>
            <a:ext cx="4537080" cy="619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886e0"/>
                </a:solidFill>
                <a:latin typeface="Garamond"/>
              </a:rPr>
              <a:t>Рисунок к доказательству, основанному на доказательстве ан-Найриз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3000" y="2195280"/>
            <a:ext cx="626436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5" name="picture" descr=""/>
          <p:cNvPicPr/>
          <p:nvPr/>
        </p:nvPicPr>
        <p:blipFill>
          <a:blip r:embed="rId1"/>
          <a:stretch/>
        </p:blipFill>
        <p:spPr>
          <a:xfrm>
            <a:off x="476280" y="2700360"/>
            <a:ext cx="6048360" cy="4535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5:48:20Z</dcterms:created>
  <dc:creator>user</dc:creator>
  <dc:description/>
  <dc:language>en-US</dc:language>
  <cp:lastModifiedBy>USER</cp:lastModifiedBy>
  <dcterms:modified xsi:type="dcterms:W3CDTF">2007-12-18T11:22:00Z</dcterms:modified>
  <cp:revision>33</cp:revision>
  <dc:subject/>
  <dc:title>Слайд 1</dc:title>
</cp:coreProperties>
</file>